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3192-3410-4260-B457-385DF5884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128E2-0063-4E17-B058-549C8B66D88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643F2-C35D-4D10-9327-FCDFA2395C8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F112-8F5B-4E6C-A3CA-E7B994D5216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D3A6C-C7A4-4A53-B61A-9E5965CC4FD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B71C-120B-4447-B8B4-A9BACED41E2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CF220-CE54-4C18-819D-9F6BAD4DD6B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0FDC6-3202-4401-8D5F-A59940EBC91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F5B31-BA3F-4741-B1F6-26EAFE00B22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811F7-7297-4BBE-B28A-F0020882120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B17F-FC70-44C6-BFE9-33A335B3875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1E2DD6-AB53-4937-9872-39A80D6AA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732C-823F-4F50-B78B-847297B734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80C776-A95D-4E8C-9B1F-046D91074A0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23575D-F30C-4B97-BF37-298BF481A11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12F2F6-F3B0-45B4-93DC-85B4CC32044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25963D-4AD5-41CE-A51C-6C14D7AAA33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F80A7-8ADD-40F8-80D1-F7F2CA8FAFD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7A339C-E185-4A8F-8ADA-56EAD1E0687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15A9A-2BC5-4451-9697-ADFB4C1B502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FEFA3E-1098-45F4-8F85-900235AD0BA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783EEE-2FAC-45E1-9D04-EADF2FE6B78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221A15-8A40-493C-A840-EFFD9F21D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E79E-4CD0-49F1-BB9F-F59C4F52B2F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B7543E-C1EB-46BE-932F-7B9D01596BD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DC23B-448E-405C-9328-647D8C2C536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B7216-AAB6-4050-AFAE-935E6778546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12C6DF-A979-4761-BD9E-00A10844212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7BE2C-2CA5-4198-B419-FEE235319C8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71B0C-C2BD-4043-82FA-BB7E0FF24B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3D4EA-4B8A-4247-A645-A7B87B36923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82C79-37E1-4276-BF26-3B1419F9F2E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6EC98A-2B29-47E4-82D1-6FDB3E635E3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567D4-602C-41BA-A06F-7A9303B69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7F11-5F23-4C04-8E7F-5CE16131A56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2B13B-3332-47D7-BDC9-B906773B4E9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5BABD-E829-43CF-9CAA-CAD4F2E2FCC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B14D2-CEDF-4509-98DB-B6993414D58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F3094-17BD-45C0-8FD2-BAC01EAB164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07AA3-8F13-4E26-9349-5949157BEB9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0EB1E-2C55-482C-8382-1ED6B1DAD30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8A5BE-EFE6-42AC-BCD0-9595B485A18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0EF5B-8551-4381-BEA4-C4985279FC3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0D8C3-0286-4246-ACCC-D8571BF2C88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E2AA9-185C-40CF-8715-1A6EBED460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4C04C-04E2-4FFC-A63B-9B7108AF452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D90F8-7C27-4C34-90C9-FAA9CD41410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1BE5F-08DB-4250-BA85-9953CD92DE4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E890C-5621-4DE3-A091-C3D509F2A7D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62ED-4D54-4988-8BBF-B4123C125FE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2A729-6010-4A58-A3F8-59B26C303F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BB78-8AD6-4FBE-8C31-11A27A1E4A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F5A30-866D-4865-BED5-136322EC51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6BD22-E2E3-4F34-8FA5-7A119176BE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E2384-C28D-4FBB-8BA9-BE24DC6366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7C49E-C94E-4358-9BE4-55618818AB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DAE0-874D-4C41-9F6B-43DB2C9B4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BE4E4-FA33-44C8-BC10-C44C037829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EC246-7306-4DC3-8E4E-37D3F43E6D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BDE9-9570-48E7-BDCF-C1E971278E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7C872-7D74-478F-A368-AC96FF0874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415C4-D965-404E-A565-FC32FE7974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0EE-BD19-460B-88E6-027C963AB1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F85-5B23-4D91-83A7-AF34437ACB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C3C-98E7-4FD6-98B1-7829AACAD9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786-9988-444D-A59E-735AEB1DFF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8A5-DD2B-4D03-881A-C2F59DEC86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D7B9-32BA-41F3-89D5-82AC3F5C0E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E0C-7368-436B-91D8-F8D842E304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9C6-2C94-4883-BA7D-9396481AA9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35A-A6ED-4C75-9E9B-25A7F103D2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A13-5074-4CC7-926E-DCDB510FE1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DB6-8822-4DD1-B85D-8F5A0C2F5D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1E0-E17B-4C02-943D-D6E8264B7C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E72-0AE0-4684-A181-1463999C1F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23C1E-835B-474C-9F96-639E20462D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74714-9CD2-402A-BF69-D4B0671B87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1E686-8F0B-4268-9982-6D693D52D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A0E0-4EFC-4381-8BEE-8233F8636D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ACEAE-365D-4385-8A7B-0A9D5D7C70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B541A-8AEF-47F8-8866-6DD7EB0D520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A4705-61B5-4605-B0D3-B7CB0AB98A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BA2AF-96CD-400B-9ECF-529948B60E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5E74D-049A-4D99-80FC-ABEE16506A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29126-D100-4A64-A49C-48E5CAE216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BAD64-E202-4229-BA6B-45518A199E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84347-83B5-41B8-8093-9D90FD83AC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B594C-CAEC-4D2F-B086-4A170C8EFF7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9172D-A6C4-4AA0-8003-2276DC5AB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E5D7-5CF3-48B7-B23F-F874D8D0A3A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8F301-FA34-404F-BE98-8DF6E0F3DE2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3FADA-CD4B-497B-9CDB-A26DCC3D86A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83848-1CB9-4A90-BA29-FC330A60B3E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7DBC4-C955-4330-A732-D9F2E895EF5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3C39E-45A3-416A-AD9E-9F464A97894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B7124-E286-4879-9204-C0B9D3B408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5A7E9-A358-4AFB-8CF0-EF59578A881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235A8-E2BB-4824-807E-2DE0D866EF6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558BD-2F6D-46B5-A02B-C053619A1EA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1A37E-DF14-4D94-9F22-FE686E25E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7CF2-4343-431F-829A-30F97C4D6B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8CF86-B176-42E9-BCB2-E2D9988114B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FAA4-975F-4CBC-B1E5-63E2AE98E5C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BA36-8C97-41A1-A4D6-7BD2A05F3DB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356C-5841-4F96-8C2D-9A7DC067EE7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7F92-875E-4120-A74F-1BEE6832AEA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D457-D59F-4D93-B73A-6E925B54458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ECED-2AC9-42C4-AC0E-6F25FBE2B31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4B10-5663-463C-B992-540DC4B4EBE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14C0-2C1D-4E03-87FD-76FAA7C0CBB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E677-908C-4E49-AA4F-E1397FF96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4CC8-3CCC-4B21-BD85-9D7E633DF06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6FEC-B555-4B19-9E0B-A21CE0D0ABB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DFFD-15EB-434B-BA10-66EFA370BB5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9232-6ED7-40E8-9021-FBDCB6113BC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5E90E9-5345-4C25-95A1-A0C46173DA4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0C2F9C-39D2-4855-BA7E-237DF6B071A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366805-1E30-4DA7-B0D4-BC9208DE2A2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115B9B-0370-4B6E-B5D3-15DAC7E6BDD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4AF3E2-6936-47AD-A7FF-D0FF057AFC3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198DE2-0AAA-4C9E-9927-4EB72A711AD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22EAB-6B1F-4A3D-BCEA-A69EA1E85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05A0-21BE-46CD-992A-FFCE4407661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9A555-A5A2-4EFE-BA78-67BA2F91C08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48BB30-D015-4600-B963-8D6B3CD20BC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CCAE35-48DE-4430-83F2-3C0EDC3C6E7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F16C97-A376-4F0D-B664-F8CC88298B6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8D6958-6569-4918-B0EC-5DB34A27FCB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78995-1DA9-4282-A337-7C34B8E3FC0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0FD3B-3602-4690-9D2B-4C1A3A2BE91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4C3EA-7597-4E4B-92A6-4C73E159D3A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845FD-40B9-432A-9F6B-A9F87542924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11F7E-0EA7-4742-B357-B5466BA3C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FC16-F91A-4A2A-81C9-71E01AB08DB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87320" y="2386080"/>
            <a:ext cx="11428560" cy="134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F2445-D4F7-457D-AD07-0C7EFB13FE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C006F-3555-4791-84F9-409ECB3493B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A78F1-40E1-4844-A52E-04756FE317B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656D5-AD27-4B50-9E4F-136529D3F85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87320" y="7741800"/>
            <a:ext cx="114285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F0672-0DE8-4480-80E1-C963BE7CFDC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43800" y="539748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8732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643800" y="7741800"/>
            <a:ext cx="55771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44EE1-1E37-4133-BE48-5BC4CF3140D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156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515800" y="539748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8732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465156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8515800" y="7741800"/>
            <a:ext cx="367992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A5647-B902-42AC-B3E3-D80F120D638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713B-ED9C-4206-B6DB-05EA0753E50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3BF9-32D4-4653-AAD1-1FF92C5B9E6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CCD47-B323-4C5C-A668-1A1BB6F3A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5397480"/>
            <a:ext cx="114285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298920" y="9258120"/>
            <a:ext cx="3906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Bradley Hand ITC TT-Bold"/>
                <a:ea typeface="Stone Sans ITC TT-Sem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288A64-1C08-4730-A5B0-8622746325A5}" type="slidenum">
              <a:rPr b="0" lang="en-US" sz="1200" spc="-1" strike="noStrike">
                <a:solidFill>
                  <a:srgbClr val="000000"/>
                </a:solidFill>
                <a:latin typeface="Bradley Hand ITC TT-Bold"/>
                <a:ea typeface="Stone Sans ITC TT-Semi"/>
              </a:rPr>
              <a:t>&lt;number&gt;</a:t>
            </a:fld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928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ldNum" idx="10"/>
          </p:nvPr>
        </p:nvSpPr>
        <p:spPr>
          <a:xfrm>
            <a:off x="12280680" y="8940960"/>
            <a:ext cx="438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F91F5-0D2E-401C-A2FB-8B1EAAB770BF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Num" idx="11"/>
          </p:nvPr>
        </p:nvSpPr>
        <p:spPr>
          <a:xfrm>
            <a:off x="12280680" y="8940960"/>
            <a:ext cx="438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D2584-F6E5-4A06-B4CE-3E35DB778768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1270080" y="193680"/>
            <a:ext cx="10463040" cy="1012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Num" idx="12"/>
          </p:nvPr>
        </p:nvSpPr>
        <p:spPr>
          <a:xfrm>
            <a:off x="12280680" y="8940960"/>
            <a:ext cx="438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F5024-14A0-4B43-B190-FFE08D4F0C96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928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70080" y="2009880"/>
            <a:ext cx="10463040" cy="789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280680" y="8940960"/>
            <a:ext cx="438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17995-5E4B-4286-9669-3A7FA48A905C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3568680"/>
            <a:ext cx="11428560" cy="29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6298920" y="9258120"/>
            <a:ext cx="3906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011F1-4FDD-4A5C-AD6D-62AD2283B051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7180200"/>
            <a:ext cx="11428560" cy="241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Num" idx="4"/>
          </p:nvPr>
        </p:nvSpPr>
        <p:spPr>
          <a:xfrm>
            <a:off x="6298920" y="9258120"/>
            <a:ext cx="3906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1503E-CA4B-4EDE-BC95-E2AA7399C5A1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13003200" cy="9752040"/>
            <a:chOff x="0" y="0"/>
            <a:chExt cx="13003200" cy="97520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003200" cy="975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6832440" y="2222640"/>
              <a:ext cx="4722840" cy="605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4600" y="1719360"/>
            <a:ext cx="6246720" cy="357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44600" y="5397480"/>
            <a:ext cx="6246720" cy="558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5"/>
          </p:nvPr>
        </p:nvSpPr>
        <p:spPr>
          <a:xfrm>
            <a:off x="6298920" y="9258120"/>
            <a:ext cx="3906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E9C18-CAF1-4063-8B9C-D8F529F3A781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928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920" y="-1914480"/>
            <a:ext cx="4633920" cy="1573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6"/>
          </p:nvPr>
        </p:nvSpPr>
        <p:spPr>
          <a:xfrm>
            <a:off x="12280680" y="8940960"/>
            <a:ext cx="438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BAA1C-5F3D-4B30-AD9A-050D81E1C83E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928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70080" y="3124080"/>
            <a:ext cx="10463040" cy="79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7"/>
          </p:nvPr>
        </p:nvSpPr>
        <p:spPr>
          <a:xfrm>
            <a:off x="12280680" y="8940960"/>
            <a:ext cx="438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76463-D593-46FF-A903-AF170249A9E0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928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447920" y="-1914480"/>
            <a:ext cx="4633920" cy="1573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8"/>
          </p:nvPr>
        </p:nvSpPr>
        <p:spPr>
          <a:xfrm>
            <a:off x="12280680" y="8940960"/>
            <a:ext cx="438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B9F27-0C4E-46D8-93B2-2972E5B478D7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928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8051760" y="-12093840"/>
            <a:ext cx="3681360" cy="3609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9"/>
          </p:nvPr>
        </p:nvSpPr>
        <p:spPr>
          <a:xfrm>
            <a:off x="12280680" y="8940960"/>
            <a:ext cx="438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53344-DF8E-4B94-A26B-7627B0D2066D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87320" y="2386080"/>
            <a:ext cx="11430000" cy="29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Elements, Atoms &amp; Ions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154D-CA99-422F-B0A7-E129F5B4172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5726160" y="3492360"/>
            <a:ext cx="6973920" cy="42800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097680" y="8001000"/>
            <a:ext cx="5535360" cy="11048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4800600" y="3784680"/>
            <a:ext cx="965160" cy="39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4FA0-9DED-431B-B419-04CB5D6855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5726160" y="3492360"/>
            <a:ext cx="6973920" cy="42800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571680" y="6661080"/>
            <a:ext cx="5535360" cy="11048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-355680" y="3772080"/>
            <a:ext cx="965160" cy="39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BFE1-420E-4943-B40D-D2ECBEB92A7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19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N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4863960" y="3492360"/>
            <a:ext cx="8013960" cy="444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AFB2-AF48-46A0-9874-863A1DE0F01E}" type="slidenum">
              <a:t>12</a:t>
            </a:fld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 fill="hold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30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N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most are gases at room temperature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863960" y="3492360"/>
            <a:ext cx="8013960" cy="44467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787320" y="6058080"/>
            <a:ext cx="379728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0" lang="en-US" sz="36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7 are diatomic molecules</a:t>
            </a:r>
            <a:endParaRPr b="0" lang="en-US" sz="36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863960" y="4406760"/>
            <a:ext cx="6570720" cy="261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56F8-C89C-4E29-9DCF-22ABBE32CEC4}" type="slidenum">
              <a:t>13</a:t>
            </a:fld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22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2159-9E31-4856-87B2-BB506CFE401B}" type="slidenum">
              <a:t>14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0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 fill="hold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814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An additional 68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ransiti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D286-7F5A-4CD3-8FF1-85FCEFA45363}" type="slidenum">
              <a:t>15</a:t>
            </a:fld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0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 fill="hold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595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Good conductor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f heat &amp;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electricity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787320" y="7289640"/>
            <a:ext cx="37972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Lustrous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(shiny)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7F3A-D7F9-4157-ACFB-A1EAFDA91475}" type="slidenum">
              <a:t>16</a:t>
            </a:fld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3757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Malleabl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(pound into sheets)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787320" y="6388200"/>
            <a:ext cx="3797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Ductile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(draw into wires)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C733-D56E-48DF-AC7C-C1D47626B435}" type="slidenum">
              <a:t>17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8 of the known elements are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8868-067F-4D6E-9AC9-2EFE6BEC3BA6}" type="slidenum">
              <a:t>18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dur="indefinite" fill="hold">
                      <p:stCondLst>
                        <p:cond delay="0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 fill="hold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have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properties of both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amp;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Non-Metals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2ADB-C452-4A4C-92F5-D7C03B37A1F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11430000" cy="318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What is an element?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Can you name 5 of them?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4B25-BAD2-46B3-868F-385C0C9A0C6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are used in semi-conductors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for computers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ie: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Silicon (Si)</a:t>
            </a:r>
            <a:endParaRPr b="0" lang="en-US" sz="48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FBB5-1BD2-4714-AD2C-1E8FF2141E7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11430000" cy="318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An element is a substance that can not be broken-down into simpler substances by chemical mean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EC6E-B26B-455C-BAF5-2F11C15282E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11430000" cy="595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re are </a:t>
            </a:r>
            <a:r>
              <a:rPr b="0" lang="en-US" sz="4800" spc="-1" strike="noStrike">
                <a:solidFill>
                  <a:srgbClr val="ffff00"/>
                </a:solidFill>
                <a:latin typeface="Stone Sans ITC TT-Semi"/>
              </a:rPr>
              <a:t>11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known element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Stone Sans ITC TT-Semi"/>
              </a:rPr>
              <a:t>90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are found naturally on the earth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Currently, </a:t>
            </a:r>
            <a:r>
              <a:rPr b="0" lang="en-US" sz="4800" spc="-1" strike="noStrike">
                <a:solidFill>
                  <a:srgbClr val="ffff00"/>
                </a:solidFill>
                <a:latin typeface="Stone Sans ITC TT-Semi"/>
              </a:rPr>
              <a:t>2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are synthetic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 man-mad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2091-0DB6-43DF-84A0-DF2AC2ADA2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74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All 118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ganized on the Periodic Table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FE13-9FE2-47F0-946B-FA297BEF5A33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“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periodic” means to be repeating at regular interv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A471-3F7C-4945-9604-08EB413EA06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Periodic Table is organized in 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7 Periods or row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4356000" y="46101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82" name=""/>
          <p:cNvSpPr/>
          <p:nvPr/>
        </p:nvSpPr>
        <p:spPr>
          <a:xfrm>
            <a:off x="4356000" y="50547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83" name=""/>
          <p:cNvSpPr/>
          <p:nvPr/>
        </p:nvSpPr>
        <p:spPr>
          <a:xfrm>
            <a:off x="4356000" y="55119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59691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85" name=""/>
          <p:cNvSpPr/>
          <p:nvPr/>
        </p:nvSpPr>
        <p:spPr>
          <a:xfrm>
            <a:off x="4356000" y="64263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356000" y="6870600"/>
            <a:ext cx="430200" cy="1712880"/>
            <a:chOff x="4356000" y="6870600"/>
            <a:chExt cx="430200" cy="1712880"/>
          </a:xfrm>
        </p:grpSpPr>
        <p:sp>
          <p:nvSpPr>
            <p:cNvPr id="487" name=""/>
            <p:cNvSpPr/>
            <p:nvPr/>
          </p:nvSpPr>
          <p:spPr>
            <a:xfrm>
              <a:off x="4356000" y="6870600"/>
              <a:ext cx="430200" cy="341280"/>
            </a:xfrm>
            <a:prstGeom prst="rightArrow">
              <a:avLst>
                <a:gd name="adj1" fmla="val 48148"/>
                <a:gd name="adj2" fmla="val 77862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d7e2ee"/>
                </a:solidFill>
                <a:latin typeface="Bradley Hand ITC TT-Bold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56000" y="8242200"/>
              <a:ext cx="430200" cy="341280"/>
            </a:xfrm>
            <a:prstGeom prst="rightArrow">
              <a:avLst>
                <a:gd name="adj1" fmla="val 48148"/>
                <a:gd name="adj2" fmla="val 77862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d7e2ee"/>
                </a:solidFill>
                <a:latin typeface="Bradley Hand ITC TT-Bold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356000" y="7353360"/>
            <a:ext cx="430200" cy="1636560"/>
            <a:chOff x="4356000" y="7353360"/>
            <a:chExt cx="430200" cy="1636560"/>
          </a:xfrm>
        </p:grpSpPr>
        <p:sp>
          <p:nvSpPr>
            <p:cNvPr id="490" name=""/>
            <p:cNvSpPr/>
            <p:nvPr/>
          </p:nvSpPr>
          <p:spPr>
            <a:xfrm>
              <a:off x="4356000" y="7353360"/>
              <a:ext cx="430200" cy="341280"/>
            </a:xfrm>
            <a:prstGeom prst="rightArrow">
              <a:avLst>
                <a:gd name="adj1" fmla="val 48148"/>
                <a:gd name="adj2" fmla="val 77862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d7e2ee"/>
                </a:solidFill>
                <a:latin typeface="Bradley Hand ITC TT-Bold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56000" y="8648640"/>
              <a:ext cx="430200" cy="341280"/>
            </a:xfrm>
            <a:prstGeom prst="rightArrow">
              <a:avLst>
                <a:gd name="adj1" fmla="val 48148"/>
                <a:gd name="adj2" fmla="val 77862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d7e2ee"/>
                </a:solidFill>
                <a:latin typeface="Bradley Hand ITC TT-Bol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866B-FA3B-4324-8E2E-0E4184FA20FC}" type="slidenum">
              <a:t>7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0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 fill="hold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 fill="hold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 fill="hold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 fill="hold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 fill="hold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... and in 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18 Group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 column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 Groups are also called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“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Families”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 rot="5400000">
            <a:off x="4966920" y="393696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96" name=""/>
          <p:cNvSpPr/>
          <p:nvPr/>
        </p:nvSpPr>
        <p:spPr>
          <a:xfrm rot="5400000">
            <a:off x="5341320" y="4400280"/>
            <a:ext cx="432000" cy="343080"/>
          </a:xfrm>
          <a:prstGeom prst="rightArrow">
            <a:avLst>
              <a:gd name="adj1" fmla="val 48148"/>
              <a:gd name="adj2" fmla="val 77778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570996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98" name=""/>
          <p:cNvSpPr/>
          <p:nvPr/>
        </p:nvSpPr>
        <p:spPr>
          <a:xfrm rot="5400000">
            <a:off x="607824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99" name=""/>
          <p:cNvSpPr/>
          <p:nvPr/>
        </p:nvSpPr>
        <p:spPr>
          <a:xfrm rot="5400000">
            <a:off x="645948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0" name=""/>
          <p:cNvSpPr/>
          <p:nvPr/>
        </p:nvSpPr>
        <p:spPr>
          <a:xfrm rot="5400000">
            <a:off x="685296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1" name=""/>
          <p:cNvSpPr/>
          <p:nvPr/>
        </p:nvSpPr>
        <p:spPr>
          <a:xfrm rot="5400000">
            <a:off x="722124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757692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793260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4" name=""/>
          <p:cNvSpPr/>
          <p:nvPr/>
        </p:nvSpPr>
        <p:spPr>
          <a:xfrm rot="5400000">
            <a:off x="828828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5" name=""/>
          <p:cNvSpPr/>
          <p:nvPr/>
        </p:nvSpPr>
        <p:spPr>
          <a:xfrm rot="5400000">
            <a:off x="864360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901188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7" name=""/>
          <p:cNvSpPr/>
          <p:nvPr/>
        </p:nvSpPr>
        <p:spPr>
          <a:xfrm rot="5400000">
            <a:off x="9367200" y="4400280"/>
            <a:ext cx="432000" cy="343080"/>
          </a:xfrm>
          <a:prstGeom prst="rightArrow">
            <a:avLst>
              <a:gd name="adj1" fmla="val 48148"/>
              <a:gd name="adj2" fmla="val 77778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8" name=""/>
          <p:cNvSpPr/>
          <p:nvPr/>
        </p:nvSpPr>
        <p:spPr>
          <a:xfrm rot="5400000">
            <a:off x="9735480" y="4400280"/>
            <a:ext cx="432000" cy="343080"/>
          </a:xfrm>
          <a:prstGeom prst="rightArrow">
            <a:avLst>
              <a:gd name="adj1" fmla="val 48148"/>
              <a:gd name="adj2" fmla="val 77778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09" name=""/>
          <p:cNvSpPr/>
          <p:nvPr/>
        </p:nvSpPr>
        <p:spPr>
          <a:xfrm rot="5400000">
            <a:off x="10103760" y="4400280"/>
            <a:ext cx="432000" cy="343080"/>
          </a:xfrm>
          <a:prstGeom prst="rightArrow">
            <a:avLst>
              <a:gd name="adj1" fmla="val 48148"/>
              <a:gd name="adj2" fmla="val 77778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10" name=""/>
          <p:cNvSpPr/>
          <p:nvPr/>
        </p:nvSpPr>
        <p:spPr>
          <a:xfrm rot="5400000">
            <a:off x="10472040" y="4400280"/>
            <a:ext cx="432000" cy="343080"/>
          </a:xfrm>
          <a:prstGeom prst="rightArrow">
            <a:avLst>
              <a:gd name="adj1" fmla="val 48148"/>
              <a:gd name="adj2" fmla="val 77778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11" name=""/>
          <p:cNvSpPr/>
          <p:nvPr/>
        </p:nvSpPr>
        <p:spPr>
          <a:xfrm rot="5400000">
            <a:off x="10840320" y="4400280"/>
            <a:ext cx="432000" cy="343080"/>
          </a:xfrm>
          <a:prstGeom prst="rightArrow">
            <a:avLst>
              <a:gd name="adj1" fmla="val 48148"/>
              <a:gd name="adj2" fmla="val 77778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512" name=""/>
          <p:cNvSpPr/>
          <p:nvPr/>
        </p:nvSpPr>
        <p:spPr>
          <a:xfrm rot="5400000">
            <a:off x="11209320" y="39434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d7e2ee"/>
              </a:solidFill>
              <a:latin typeface="Bradley Hand ITC T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432E-E9A0-4776-9AEC-4398BF896A2B}" type="slidenum">
              <a:t>8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0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Elements in the same Group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have similar characteristic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99DD-4D1A-425A-B297-4034993E6DE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